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9.png" ContentType="image/pn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D377-817B-4B20-A347-56968BF3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A4D8-0E45-4A1A-BD88-31BE6756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7636-0075-457B-9E1C-299DD08B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395D-03F1-4A05-A45E-EC61DD11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BE4C-FA0C-402E-B3A5-0D135345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6212-14C4-45DF-BEAD-CC534AA8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EC8C-6618-4ED4-A685-452DE51D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50D-F069-4546-80C1-3D76BF58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5FC3-58CB-49A2-8812-BE979B63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DE6C-4A93-46DA-9842-D36C5A77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B82B-01F4-4A32-89C3-27459CFA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BB2F-49D8-48AD-A72C-BB97BC65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D217-B89A-4348-B4DB-5FBB01BFD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19400" y="1119240"/>
            <a:ext cx="47052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39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 rot="4790400">
            <a:off x="2246040" y="2477880"/>
            <a:ext cx="745920" cy="971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00400" y="6094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anks for liste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47242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ff00"/>
                </a:solidFill>
                <a:latin typeface="Arial"/>
              </a:rPr>
              <a:t>By Corey F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 rot="15382800">
            <a:off x="2133360" y="3504600"/>
            <a:ext cx="112860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127476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9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Hi, I will be talking to you about the Crusty Demons which you all properly now about but if not, the Crusty Demons are a group of daredevils that perform tricks on motorbikes and anything else they dare to 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9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9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ese are the questions that I wanted to know; the rider that has been riding the longest, who is the most well known rider and what is the most famous and hardest trick to 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9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9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e most famous trick is a Double Back Flip, but only 3 people can land it. The hardest trick to do is a Cliff Hanger Back Flip, it is the hardest trick to do because you hang from the handlebars by your feet while doing a back fl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9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9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ravis Pistrana is the most will know rider because he has been riding the long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9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1523880"/>
            <a:ext cx="868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re is a New Zealander in the Crust Demons and he is the 3rd person to land a double Back Flip (GO LEVI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Crusty Demons have set some world records, like longest wheelie on a BMX bike (255 feet) set by Trevor Porter, longest jump on a 250cc motorbike (255.4 feet) set by Larry Linkogle, longest ramp to ramp back flip (12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eet 7 inches) by Cam Sinclair and the one that shows the Crusty Demons are daredevils, the most swords swallowed  at once (17) by Chayen Hultgren, also known as the “Space Cowboy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 have now come to the end of my speech and some of you are properly thinking a double back flip is easy, but  it’s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2360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29000" y="0"/>
            <a:ext cx="314316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2362320"/>
            <a:ext cx="3371760" cy="4495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553080" y="0"/>
            <a:ext cx="2590920" cy="4029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352680" y="51055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5105520" y="4038480"/>
            <a:ext cx="4038480" cy="2819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352680" y="2362320"/>
            <a:ext cx="1752840" cy="2743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5105520" y="2362320"/>
            <a:ext cx="14475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62120" y="4419720"/>
            <a:ext cx="3047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0"/>
            <a:ext cx="64767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999"/>
                </a:solidFill>
                <a:latin typeface="Arial"/>
              </a:rPr>
              <a:t>These are the questions that I wanted to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980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99cc00"/>
                </a:solidFill>
                <a:latin typeface="Arial"/>
              </a:rPr>
              <a:t>The rider that has been riding the longest?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7738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3300"/>
                </a:solidFill>
                <a:latin typeface="Arial"/>
              </a:rPr>
              <a:t>who is the most well known ri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720" y="3612240"/>
            <a:ext cx="68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Arial"/>
              </a:rPr>
              <a:t>what is the most famous and hardest trick to do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3200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00600" cy="3191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0" y="3173400"/>
            <a:ext cx="4724280" cy="3684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724280" y="3200400"/>
            <a:ext cx="4419720" cy="3657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90920" y="28195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3300"/>
                </a:solidFill>
                <a:latin typeface="Arial"/>
              </a:rPr>
              <a:t>Double Back Fl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e75c09fa.jpg bilko image by RYNOSTONER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62320" y="2286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ff00"/>
                </a:solidFill>
                <a:latin typeface="Arial"/>
              </a:rPr>
              <a:t>Cliff Hanger Back Fl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511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505320" y="5105520"/>
            <a:ext cx="3504960" cy="1752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3505320" cy="1752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638680" y="0"/>
            <a:ext cx="3505320" cy="5105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010280" y="5105520"/>
            <a:ext cx="2133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390920" y="0"/>
            <a:ext cx="4753080" cy="3657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3657600"/>
            <a:ext cx="4419720" cy="3200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419720" y="3657600"/>
            <a:ext cx="47242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269568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iceH</cp:lastModifiedBy>
  <dcterms:modified xsi:type="dcterms:W3CDTF">2009-12-08T22:48:5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